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8F5-F260-4497-85E2-E4D610DC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442-6755-437A-9104-6AF4AA2F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096-98BB-4862-BFBB-EC6EB18A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FB8-C788-480D-A53B-4B51AF4F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850-6CE8-40CD-AB76-1D32D80A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711E-A269-496D-B31B-18F6C177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B439-D03F-4CCF-8D06-A2D69F8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4D6-FECD-4882-9079-6D10EA33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0932-6D93-4F98-96EE-5218802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0D14-3CA7-4205-8066-6112754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5D5E-D892-483F-A928-22A3DBF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195-BBDD-4FFC-8B5E-3DC503B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8A79-94D5-41ED-A2BF-8B039BF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1C3E-2E07-4BE5-8CB2-3EF98BD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466E-BDFB-473F-B86E-E35A354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8DE4-F0C3-4C32-878B-33F915EB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BD9-699F-4855-BB38-F9DEA6AC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65F-A17D-4A9F-AF72-26FF69D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DE9-6CD7-44FC-A3FA-12EEBBF9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0BD-F2C2-4BD0-A514-6A3FE34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B5D-D9DA-413F-93DA-00EC01C6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975-D3D0-4A95-9C81-4C10900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DC8-AE69-4DAA-A2B2-BD2DB0C3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92B-C87C-4257-815E-81F6B38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21E6-9CD1-486D-BA7A-93D4EA949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CEA-72C9-4491-9D43-D46324B24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ll There Was No Remedy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vided Kingdom –Part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 Lesson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bakk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54-1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75D3-9D76-4E46-942B-04CF44C407B9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remiah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Jer. 26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e beginning of Jehoiakim’s reign, Jeremiah commanded to preach to the people in the court of the Lord’s hous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ached repentance, or doom would 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ople did not like what he had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ccused of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ders defended him – cited Mic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iah was killed for preaching the same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0C5-E8C9-48C6-A667-869FDF59E33C}" type="slidenum">
              <a:t>10</a:t>
            </a:fld>
          </a:p>
        </p:txBody>
      </p:sp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181480" y="4266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808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st Before The Fall of Assyria and the Rise of Baby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82C-90BA-4D7C-9588-9455FFBDC838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3808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on of Habakk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809880"/>
            <a:ext cx="5335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97E-3909-43FA-BCE9-1634E5F1DF04}" type="slidenum">
              <a:t>3</a:t>
            </a:fld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abakkuk’s Ques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es God allow evil to go 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udah be punished? 1:1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Yes! – 1:5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abylon be punished? – 1:12-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Yes! – 2: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884-12F4-42E2-8901-4097416F48B0}" type="slidenum">
              <a:t>4</a:t>
            </a:fld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ighteo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not despair; all injustice will be punished and the righteous will be ave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live by faith - 2: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f it seems to be a losing 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f the numbers are on the side of the unright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BEF-CD04-4C19-A788-4ABB2BB42F41}" type="slidenum">
              <a:t>5</a:t>
            </a:fld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d Will Judge Babyl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 many si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nkenness and greed – 2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utality – 2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dding of blood – 2:7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merchants of terror – 15-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oying other lands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ss Idolatry – 18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1C7-FD71-4268-9A82-84FA803BB131}" type="slidenum">
              <a:t>6</a:t>
            </a:fld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d’s Five Woes Against Babyl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increases what is not 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that covets evil gain for hi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builds a town with blood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gives drink to his neigh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says to wood, “Awake!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ilent stones, “Arise” It shall teach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975-928C-4970-BAE0-DDE9BD70A7F3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 Re-Assured of God’s Greatn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fame has not been wrongly presented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th is still full of His praise – 3: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lory Still Brightens the Earth – 3: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are the everlasting ways – 3:5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evil has fallen before – 3:8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bakkuk would just have to wait – 3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st God even when things look dark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17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290-FEC1-4FA3-A1DB-D223DCA29AB6}" type="slidenum">
              <a:t>8</a:t>
            </a:fld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hoiakim (Eliakim)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 Kings 23:36 – 24:6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ah’s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uler (about 609 B.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years of e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Necho of Egypt had removed his brother, Jehoahaz, and taken him to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he placed Jehoiakim on the th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ho required him to pay a huge trib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D2A-B0A5-41C2-9DC0-3376D6924055}" type="slidenum">
              <a:t>9</a:t>
            </a:fld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12:56Z</dcterms:created>
  <dc:creator>Terry W. Benton</dc:creator>
  <dc:description/>
  <dc:language>en-US</dc:language>
  <cp:lastModifiedBy>Frank D Vines</cp:lastModifiedBy>
  <dcterms:modified xsi:type="dcterms:W3CDTF">2006-03-19T14:46:21Z</dcterms:modified>
  <cp:revision>9</cp:revision>
  <dc:subject/>
  <dc:title>Till There Was No Remedy Divided Kingdom –Part 2</dc:title>
</cp:coreProperties>
</file>